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52F-C349-4B43-9C2C-04C5DD82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A41-1E14-4086-8B83-E3FE3A64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ED4-F666-4F77-BDC9-4C8B08F5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966-85A8-4723-A02E-10B3F44A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F49-F478-4FE0-AED1-C67881D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87D-1BEC-4359-BD1D-24B5833D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87B-7DEA-4911-9067-0DAD888E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42F-E643-4EE7-A3D4-EFFDFB41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FA5-9E48-4580-A498-03399BB4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B1C-674E-4FC3-886B-7593633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E1D-E6B3-4B5D-9008-4612FD7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A86-5CF9-44E5-A006-3F8E9367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DEF-5B0B-48E9-9411-200C25520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tenet.edu/teks/math/clarifying/" TargetMode="External"/><Relationship Id="rId2" Type="http://schemas.openxmlformats.org/officeDocument/2006/relationships/hyperlink" Target="http://www.mathtekstoolkit.org/" TargetMode="External"/><Relationship Id="rId3" Type="http://schemas.openxmlformats.org/officeDocument/2006/relationships/hyperlink" Target="http://www.mathtekstoolkit.org/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1 – 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can be used with problems containing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5x – 3) + (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2x + 3) – 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 –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 can be used to model substitution.  Represent original expression with tiles.  Then replace each rectangle with the appropriate tile value.  Combine like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let x = -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– 2x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895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4382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29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296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362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+ 2)(x +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4382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664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971800"/>
            <a:ext cx="213336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10552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4864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93328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33145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954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895480"/>
            <a:ext cx="3962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1)(x 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723600" y="39243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25146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25146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514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514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25146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5181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048120"/>
            <a:ext cx="2133360" cy="2133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3390480" y="39240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772080" y="39243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4152960" y="39243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533480" y="39240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5181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181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181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5181480"/>
            <a:ext cx="2133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251460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971800"/>
            <a:ext cx="457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+ 2)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2)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 can be used to factor polynomials.  Use tiles and the frame to represent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tiles to fill in the array so as to form a rectangle inside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use zero pairs to fill in th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let x = -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– 2x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2895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4382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29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2362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+ 2)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2)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 can be used to factor polynomials.  Use tiles and the frame to represent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tiles to fill in the array so as to form a rectangle inside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use zero pairs to fill in th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each of the following with algebra tiles, draw a pictorial diagram of the process, then write the symbolic ex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29718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33526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7339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37339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7339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8954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24382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x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141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29718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27810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316188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35431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39240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51055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24382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4320" y="1601280"/>
            <a:ext cx="7887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5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2895480"/>
            <a:ext cx="213336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236232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2664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2933280" y="377172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3314520" y="3771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400" y="3771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502920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5410080"/>
            <a:ext cx="2133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50292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410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23623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5029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54100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236232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8195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x –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29718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51055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5486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18972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2857320" y="384804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3238200" y="384804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3619080" y="384804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2438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2438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24382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1055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2438280"/>
            <a:ext cx="0" cy="358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2895480"/>
            <a:ext cx="4114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–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x –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 can be used to divide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iles and frame to represent problem.  Dividend should form array inside frame.  Divisor will form one of the dimensions (one side) of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use zero pairs in the divid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7x +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5x –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– x –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–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x –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+ 7x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9718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56386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26640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76520" y="3505320"/>
            <a:ext cx="2133360" cy="2133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2933280" y="43812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331488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69576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076280" y="43812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445788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483876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29718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91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9718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5638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412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15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297180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3429000"/>
            <a:ext cx="5181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 are unlike the other “numbers” students learn how to add, subtract, multiply, and divide.  They are not “counting” numbers.  Giving polynomials a concrete reference (tiles) makes them re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A. Reid, Acadi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 tiles can be made using the Ellison (die-cut)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reproducible can be found by doing a search for algebra t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KS that emphasize using algebra ti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7:  7.1(C), 7.2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 I:  c.3(B), c.4(B), d.2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 II:  c.2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523880"/>
            <a:ext cx="213336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1523880"/>
            <a:ext cx="213372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38098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8098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4267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4267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na Center has several references to using algebra tiles in their Clarifying Activities.  That site can be reached us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net.edu/teks/math/clarifying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ther way to get to the Clarifying Activities is by using the Dana Center’s Math toolkit.  That site 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athtekstoolkit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486400" y="685800"/>
            <a:ext cx="2133720" cy="19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685800"/>
            <a:ext cx="2133360" cy="1981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31240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33720" y="3124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3886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38098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5981760" y="461016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378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5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s do not always use x and y.  Use other variables in the same format.  Model these ex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pq + 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not present previous material and this information on the sam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he blue square represent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large red square (flip-side) be –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he green rectangle represent x and the red rectangle (flip-side) represent –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yellow square represent 1 and the small red square (flip-side) represent –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each of the given expressions with algebra t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orial diagram of th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symbolic ex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45720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–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981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3124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3581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038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44956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124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124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gebra tiles to simplify each of the given expressions.  Combine like terms.  Look for zero pairs.  Draw a diagram to represent th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symbolic expression that represents each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4 +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 + 1 +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4 +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 + 1 +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895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24382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038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4038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40384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40384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4495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0384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44956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9528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1:05:40Z</dcterms:created>
  <dc:creator>Theodora Wieland</dc:creator>
  <dc:description/>
  <dc:language>en-US</dc:language>
  <cp:lastModifiedBy>Chatham County</cp:lastModifiedBy>
  <dcterms:modified xsi:type="dcterms:W3CDTF">2010-01-22T19:01:25Z</dcterms:modified>
  <cp:revision>3</cp:revision>
  <dc:subject/>
  <dc:title>Working with Polynomials</dc:title>
</cp:coreProperties>
</file>